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B0845-F297-43C7-8A32-64C12E4A5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E5237-73B1-428A-8016-516456033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519BC-43C0-4FD8-91E5-9BAFFD2B7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944C3-8ABE-4914-B0B3-4AAF8FF98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510328-EA06-4D13-AA48-BFED22631B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485E3-DE46-4C47-BFEC-769DDD8B7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2C53E-AC76-4934-AB18-A326847FA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21DE1-7FCF-4141-89A4-93C53ECDF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9BB67-73EF-40B3-879D-6940A3022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96F2F-AB8D-4FCB-861F-F776B803D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E9AAA-2DAD-476C-82EE-AFE0CC7E6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F1C5A-E624-4180-B919-06A7124DD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94A65-9D0D-42A6-9536-333D284EA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2CB40-8C35-4BD7-A4AA-2E85913F8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3D8F6-F307-4C77-99B7-E9DB7B2B1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2600CB-BEFF-4756-9C0F-C4F8B50F3C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753A60-7565-4657-80BB-4F72D51235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48070-9A00-4D04-8A84-DDECCE671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D0E13-53C1-4AB1-8849-1A9FE9986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1A277-EF57-4315-B6EF-4AF05B9CC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266B2-2DBA-4B49-B8BB-1EDBE97CB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9025F-C2BA-454D-9E92-FB56922C9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93BDA-5D4E-4196-AECB-B12620882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44AB4-2F48-46DF-8EA7-4620DF36B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EE046-FBA0-431D-A407-C4269D10B5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CFEEF-495A-448D-968B-89A4AB184F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britannica.com/EBchecked/topic/253934/Han-Feizi" TargetMode="External"/><Relationship Id="rId2" Type="http://schemas.openxmlformats.org/officeDocument/2006/relationships/hyperlink" Target="http://www.humanistictexts.org/hanfeitzu.htm" TargetMode="External"/><Relationship Id="rId3" Type="http://schemas.openxmlformats.org/officeDocument/2006/relationships/hyperlink" Target="http://www.wsu.edu:8080/~wldciv/world_civ_reader/world_civ_reader_1/hanfeitzu.html"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The Cons of Legalism</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dsey Saunder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rmit LeBlanc, and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ber DiSpirito</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What Would Legalism Be Like Today?</a:t>
            </a:r>
            <a:endParaRPr b="1" lang="en-US" sz="40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Legalism still existed today, there would be no fair trials for crimes, and therefore if you were accused of an act you didn’t do, you would be wrongly punished for it.</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you would not be able to pursue the career of your choice: you would basically have to choose between farming and the military.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Conclusion</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alism carried out harsh and swift punishments. Some may have been too harsh and we believe that people would leave out of fear.</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feizi said that all people were untrustworthy, (which included himself), which led to his death.</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egalist rulers abolished the idea of pursuing careers besides farming and milit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Sources:</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66"/>
                </a:solidFill>
                <a:uFillTx/>
                <a:latin typeface="Arial"/>
                <a:hlinkClick r:id="rId1"/>
              </a:rPr>
              <a:t>http://www.britannica.com/EBchecked/topic/253934/Han-Feizi</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66"/>
                </a:solidFill>
                <a:uFillTx/>
                <a:latin typeface="Arial"/>
                <a:hlinkClick r:id="rId2"/>
              </a:rPr>
              <a:t>http://www.humanistictexts.org/hanfeitzu.htm</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66"/>
                </a:solidFill>
                <a:uFillTx/>
                <a:latin typeface="Arial"/>
                <a:hlinkClick r:id="rId3"/>
              </a:rPr>
              <a:t>http://www.wsu.edu:8080/~wldciv/world_civ_reader/world_civ_reader_1/hanfeitzu.htm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o was the founder of Legalism?</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feizi(280-233 B.C.E)</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feizi was the prince of the Han dynasty, and according to him, “the nature of man is evil. His goodness is acquired.”</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feizi also believed that helping the poor was “robbing the diligent and frugal an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What Is Legalism?</a:t>
            </a:r>
            <a:endParaRPr b="1" lang="en-US" sz="5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Legalist government, a ruler focused on making his state strong by using a system of harsh punishments and rewards regulated through law and strict, swift enforcemen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alist rulers believed that this would guarantee good behavior by instilling fear in his peo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egalism and Education</a:t>
            </a:r>
            <a:endParaRPr b="1" lang="en-US" sz="4400" spc="-1" strike="noStrike">
              <a:solidFill>
                <a:srgbClr val="ffffb7"/>
              </a:solidFill>
              <a:latin typeface="Arial Black"/>
            </a:endParaRPr>
          </a:p>
        </p:txBody>
      </p:sp>
      <p:sp>
        <p:nvSpPr>
          <p:cNvPr id="105" name="PlaceHolder 2"/>
          <p:cNvSpPr>
            <a:spLocks noGrp="1"/>
          </p:cNvSpPr>
          <p:nvPr>
            <p:ph/>
          </p:nvPr>
        </p:nvSpPr>
        <p:spPr>
          <a:xfrm>
            <a:off x="1136160" y="21333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galist school discouraged all other callings, especially those of the scholar, and saw farming and military as the only two productive occupation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 The Legalist school’s most notorious achievement was the law dictating the burning of all boo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6" name="" descr=""/>
          <p:cNvPicPr/>
          <p:nvPr/>
        </p:nvPicPr>
        <p:blipFill>
          <a:blip r:embed="rId1"/>
          <a:stretch/>
        </p:blipFill>
        <p:spPr>
          <a:xfrm>
            <a:off x="6248520" y="5257800"/>
            <a:ext cx="2057400" cy="1600200"/>
          </a:xfrm>
          <a:prstGeom prst="rect">
            <a:avLst/>
          </a:prstGeom>
          <a:ln w="0">
            <a:noFill/>
          </a:ln>
        </p:spPr>
      </p:pic>
      <p:pic>
        <p:nvPicPr>
          <p:cNvPr id="107" name="" descr=""/>
          <p:cNvPicPr/>
          <p:nvPr/>
        </p:nvPicPr>
        <p:blipFill>
          <a:blip r:embed="rId2"/>
          <a:stretch/>
        </p:blipFill>
        <p:spPr>
          <a:xfrm>
            <a:off x="6934320" y="5105520"/>
            <a:ext cx="83952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Legalism and Education- Continued</a:t>
            </a:r>
            <a:endParaRPr b="1" lang="en-US" sz="40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disagree with Legalist views on education because farming and military are not the only things important to run a good empire. If there are no scholars and no people pursuing other careers, there would be no doctors and no advisers. Therefore, your state may not be that powerful because you would lack the knowledge that other empires may have.</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by discouraging learning, you’re taking away the right for a person to pursue other occup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unishments Under Legalism</a:t>
            </a:r>
            <a:endParaRPr b="1" lang="en-US" sz="40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alist rulers believed in swift, harsh punishment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nishments were enforced by law WITHOUT EXCEPTIO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unishments: UNFAIR!</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punishments are too swift or harsh, people may begin to think that the punishments are unjust, and therefore rebel anywa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were no guidelines in which to carry out punishments, and without any, things could get out of h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Refuting the Pros</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pposing side may say that by instilling fear in others, you are ensuring order and creating a strong government, BUT if your punishments are too strict, people may begin to fear you so much that they decide to leave and relocate somewhere else where they feel safe.</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 though you may give good citizens rewards, it may not be enough to make them feel comfortable with your govern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ood Government, Or Not?</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pposing side may also say that Legalism gives a state a strong government, but Hanfeizi said:”</a:t>
            </a:r>
            <a:r>
              <a:rPr b="0" lang="en" sz="2400" spc="-1" strike="noStrike">
                <a:solidFill>
                  <a:srgbClr val="ffffff"/>
                </a:solidFill>
                <a:latin typeface="Arial"/>
              </a:rPr>
              <a:t>The ruler should trust neither the people nor his aides, neither his kin nor his closest friends.”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This is revealing because as a minister, Hanfeizi is saying that he himself cannot be trusted. This ultimately led to his death.</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Also, how can a government be a good government if your own ruler is saying that he cannot be trusted? If he does not confide in his advisors, he may make bad decisions, which may weaken your governmen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16:29:38Z</dcterms:created>
  <dc:creator>ECPS-User</dc:creator>
  <dc:description/>
  <dc:language>en-US</dc:language>
  <cp:lastModifiedBy>ECPS-User</cp:lastModifiedBy>
  <dcterms:modified xsi:type="dcterms:W3CDTF">2009-11-11T15:53:01Z</dcterms:modified>
  <cp:revision>27</cp:revision>
  <dc:subject/>
  <dc:title>Slide 1</dc:title>
</cp:coreProperties>
</file>